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33.jpeg" ContentType="image/jpeg"/>
  <Override PartName="/ppt/media/image10.png" ContentType="image/png"/>
  <Override PartName="/ppt/media/image35.jpeg" ContentType="image/jpeg"/>
  <Override PartName="/ppt/media/image13.wmf" ContentType="image/x-wmf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9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36.png" ContentType="image/png"/>
  <Override PartName="/ppt/media/image12.wmf" ContentType="image/x-wmf"/>
  <Override PartName="/ppt/media/image8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6858000" cy="9701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6858000" cy="97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Img"/>
          </p:nvPr>
        </p:nvSpPr>
        <p:spPr>
          <a:xfrm>
            <a:off x="1003320" y="726840"/>
            <a:ext cx="4851360" cy="363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14"/>
          </p:nvPr>
        </p:nvSpPr>
        <p:spPr>
          <a:xfrm>
            <a:off x="-360" y="92134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 type="sldNum" idx="15"/>
          </p:nvPr>
        </p:nvSpPr>
        <p:spPr>
          <a:xfrm>
            <a:off x="3884400" y="92134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8CE6-9AFE-4BE7-9D1E-0B3E7BE304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tandfolie, vor Begin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68BF-FD92-4F93-8592-B6D75110B4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s Weiter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Logprogramme (zeigen nach Eingabe des Rufzeichens auch Antennenrichtung usw. 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.a. im Funkwettbewerb praktis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Frei verfügbare Rufzeichenlist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druckte Listen, in Amateurfunkhandbüchern, auf CD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F8A5-F267-4DA3-8D34-589E7C77DDC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stabieralphabe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ier eine Prüfungsfrage aus diesem Gebiet der Betriebstechni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s werden auch geographische Kenntnisse verlang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ODO: an Whiteboard die Länder, die an Deutschland grenzen mit Landeskennern auflisten (neun Stüc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ben anfa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. Dänemark (O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. Niederlande (P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3. Belgien (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4. Luxemburg (L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5. Frankreich (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6. Schweiz (H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7. Österreich (O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8. Tschechien (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9. Polen (S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4B52-D596-4872-B440-D1150CB3D4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stabieralphabe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ODO: an Whiteboard die Länder, die an Deutschland grenzen mit Landeskennern auflisten (neun Stüc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ben anfa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. Dänemark (O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. Niederlande (P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3. Belgien (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4. Luxemburg (L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5. Frankreich (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6. Schweiz (H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7. Österreich (O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8. Tschechien (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9. Polen (S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B05-59D5-4AA3-BC73-D473B4ADEBB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ODO: an Whiteboard die Länder, die an Deutschland grenzen mit Landeskennern auflisten (neun Stüc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ben anfa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. Dänemark (O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. Niederlande (P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3. Belgien (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4. Luxemburg (L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5. Frankreich (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6. Schweiz (H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7. Österreich (O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8. Tschechien (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9. Polen (S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C2BD-92E5-4805-9D9D-EB80D1EFBB5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ösung mit Landeskenn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e Menge, aber wenigstens die europäischen sollte man kennen, die hört man auch öf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rkregel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092F-0DE1-498F-A3EE-51B2C4D6F3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terschied zwischen HB und HB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V, Vatikan, Heiliger Va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A, Norwegen, Lach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, Polen, Sozialistisches Polen (Schönes Pol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teils – na ja – kritische Merkhilf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900C-068C-4A3A-9289-6AC10D8DD1A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rkregeln beachten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inweis: BESONDERHEIT der Präfixe von Großbritannien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69C0-2AB4-4AF1-93D8-877AD89FF2B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ternational gebräuchlich. An das Rufzeichen angehäng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maritim mobile: auf offener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aeronautical mobile: Flugze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mobile: Auto, Fahrrad, Boot (Binnengewässer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portabel: meist mit einem Handfunkgerät irgendwo unterwe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icht zwingend erforderl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f Wasser oder in der Luft braucht man auch +keine Sondergenehmigung+ der BNetzA (VD129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8B26-A902-4FC7-BC65-3D4340699A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trieb aus Luftfahrzeu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J4UF/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hinter steht das /AM für aeronautical mob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erdings nur in der Luft(!), ansonsten portab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E302-FE53-4472-A416-4FB45ADCF41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L/G3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ederholung von zweiter Stunde (internationaler Betrieb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IER: direkt die Lösu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7C6C-331A-494E-A49F-03B4C56CE6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. Landeskenner, vor allem im weltweiten Betrieb wicht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ufzeichen -&gt;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. IARU – International Amateur Radio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egi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3. Deutsche Rufzeichen, Unterschie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20EA-58EA-4BD3-B188-7FDBA5977C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  IARU-Regionen  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trennte Regulierung für  u n t e r s c h i e d l i c h e  Frequenzbereichszuweisungen für die Funkdienste (kaum Beeinflussung auf Mittelwelle und Ultrakurzwelle), 3 Regi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ür Kurzwelle, internationaler Verkehr (z.B. Flugzeuge, Schifffahrt) und z.B. Satellitenbetrieb  i n t e r n a t i o n a l e  Regelungen erforderl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ARU – International Amateur Radio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gibt es seit 19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4270-AF5C-4C81-A1D8-03049ABFFB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! -&gt; Deutschland liegt in der IARU-Region 1 [Prüfungsfrage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s sind immer  d r e i  Regionen [Prüfungsfrage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allen drei Regionen kommen diese – laut Buch – in den Prüfungsfragen vor. Teils im Ausschlussverfahren lösb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spiele à l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D305  Welche Landeskenner sind afrikanischen Ländern zugewies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D306  Welche Landeskenner sind südamerikanischen Ländern zugewies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D303  Welche Gruppe gibt die Landeskennern der Länder China, Japan, Kanada, Australien, Mexiko und USA für ihre Amateurfunkstellen richtig wie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D303  Welche Gruppe gibt die Landeskennern der Länder China, Japan, Kanada, Australien, Mexiko und USA für ihre Amateurfunkstellen richtig wie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D304  Welche fünf Landeskenner sind einem einzigen Kontinent zuzuordnen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uszug zu Merkrege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nächste Fol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342D-B678-4CF2-A44A-B89E17A1E1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erkwörter (Eselsbrücken):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F  Tiefer Frost  (Island)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2B92-7762-4647-85DD-0B0DF19F11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erkwörter (Eselsbrücken):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K  Viele Kängurus (Australi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.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CDB8-A84A-479C-B9EF-5C3CB19C5C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erkwörter (Eselsbrücken):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, W, N, A =&gt; USA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D309  In welcher Zeile stehen nur Rufzeichen aus den Vereinigten Staaten von Amerika (US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9A0A-EF4A-45FB-B7A8-B38A3FEF902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stabieralphabe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äfixe hervorgehoben (nicht in der Prüfung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 letzte Merkregel w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iner Will Nach Amerika“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K, W, N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9A08-6E03-49D5-8C84-D35154FC45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A… European Rus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S… Ukraine (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VE… Kanada (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iele Eisbären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 letzte Merkregel w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iner Will Nach Amerika“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K, W, N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Ausschlussverfahr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AD79-1F8A-4549-8593-A92A0393688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erkwörter (Eselsbrücken):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..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A  Obere Anden (Peru)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Y  Pyranha (Brasili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0AB6-FC1A-42FF-88F3-5A086D8186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es mit 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D301  Welche Gruppe von Landeskennern DA bis DZ ist folgenden Ländern zugeordn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..DR  Deutsch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S..DT  Südko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U..DZ  Philippi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rkregel für deutschen Block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utsche Amateurfunker Dekodieren Richtig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199E-25B4-490A-A596-E6AD9679C5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rekt nach bestandener Prüfung werden Sie an Ort und Stelle gefragt, ob Sie einen Antrag auf Zulassung zum Amateurfunk stellen mö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a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unschrufzeichen -&gt; Wenn noch frei und nicht in Sperrz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teilung Rufzeichenplan im AFuV §10 Abs. 3, Prüfungsf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Meistens werden die Initialen des Namens gewählt und vielleicht als dritten Buchstaben des Suffix der erste Buchstabe von Ihrem Wohno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ritz Meier in Aach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uffix“ F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st DL1FMA oder DO2FMA und so weiter für Sie noch frei sind. 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Rufzeichenlis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ufzeichenliste: Name öffentlich, Anschrift, Betriebsort &lt;-&gt; Widerspruchsrecht zu Anschrift, teils unpraktisch (QS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810B-5A0C-42E7-A705-9EF6CC3383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 ZUR LÖS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D218  Woran erkennt man eine Amateurfunkstelle im Funkbetrieb? Am Amateurfunkrufzeich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lingt anfangs banal, allerdings abhängig von Sekundär- / Primärnutzer und Betriebstechnik zu b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BB58-B1B4-4A16-93B1-291C72612D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ch im Block von DA..DR, der Deutschland zugeordnet ist, gibt es unterschiedliche Bedeutung der Präfix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R1A: Conteststation, kurzes Rufzeichen, Klubstationsrufzei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29CA-5A88-4710-B183-3DCE07ADB08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ufzeichenaufbau DA..DR (deutsche Rufzeiche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ormat: Zwei Buchstaben als Präfix, gefolgt von einer Ziffer und 1-3 Buchstaben als Suffix (BD115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onderrufzeichen: (VD2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ufzeichen für Klubstationen mit 1- buchstabigem oder 4- bis 7-stelligem Suffix, das mit einem Buchstaben end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.B. DR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005D-4F16-4B18-987A-DA816FC4CB6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ersonengebunde Rufzei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terschied: Klasse A / Klasse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O1 bis DO9 für Kursabsolvente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bildungs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xperimentelle Sonderstation: DA5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tomatische Stationen: DB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7E99-3823-4939-9038-CFBDDAF81C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lubstation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spw. DL0M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ch hier Unterscheidung zwis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lasse A  (DF0, DH0, DK0, DL0, DM0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lasse E  (DO0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d Kurzzeit-Stati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D309-0AFB-4076-9E6C-271CDCC1FB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sonderes Rufzeichpräfix DP für exterritoriale Funkstelle (Klubst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P0: [Klasse A] z.B. DP0ISS für deutsche Funkamate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P1: [Klasse 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SL-Karte aus 09/2006 von einem Funkverkehr mit DP0I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[Interne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C39A-3BBA-489A-82D9-FAD7333DE27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s gibt ziemlich viele weitere Prüfungsfragen, selbstständig lernen und üb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ch Fragen zu den deutschen Rufzeichen und deren Verwendungszweck und zugeordneter K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fach durchmachen, irgendwann hat man die drau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ptional: Weitere Prüfungsfragen. &lt;-&gt; Schöne Weihnachtsz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DDA6-9DAA-4FD7-BA4C-20AB9B67B19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F149-B254-4520-9039-F74320FD1A0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öne Weihnachtszeit, Guten Rutsch und vielleicht auch ein wenig Lerne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&gt; Im Januar und Februar werde ich nicht für den Kurs zur Verfügung steh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D218  Woran erkennt man eine Amateurfunkstelle im Funkbetrieb? Am Amateurfunkrufzeich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lingt anfangs banal, allerdings abhängig von Sekundär- / Primärnutzer und Betriebstechnik zu b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4CA1-5599-42C9-9E42-773FAB3C30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ufzeichenpräfix des Rufzeich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&gt; Landeskenn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D7D9-353B-431C-B6F3-849D2046D8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ufzeichenaufbau im Amateurfunk wie folg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) Präfix: Land (3 Format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Amateurfunk: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gefolgt von einer Z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) Suffix: 1-3 Buchsta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onderrufzeichen möglich  &lt;-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merkung: falls Präfix mit einer Zahl endet, wird dennoch eine Zahl angehängt (Beispiel: S5 3 AA aus Sloweni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RAGE: Wie kommt man nun vom Präfix auf das La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ächste Foli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19B0-4AF6-41E9-BEA5-F831B1BF0A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ogar als Prüfungsf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o findet man die [ Präfixe = Landeskenner ]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TU = International Telecommunication Union, Internationale Fernmeldeunion, Sitz in Genf (gegründet 18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2915-B73B-46FC-B6C7-0C7B7B0D9F5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Möglichkeit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ternet, z.B. im Webcluster von F5LEN nach Eingabe des Präf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A879-6499-4185-B965-D7C9BDFBC3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608000"/>
            <a:ext cx="54864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rz.com (größere Datenban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rzcq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ffizielle Rufzeichenlisten bei den Regulierungsbehörden (bundesnetzagentur / FC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oliennummernplatzhalter 3"/>
          <p:cNvSpPr/>
          <p:nvPr/>
        </p:nvSpPr>
        <p:spPr>
          <a:xfrm>
            <a:off x="3884760" y="92138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ADFB-3BEA-459B-AD57-1FF3168551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0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11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2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3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4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6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7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8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8" descr="I:\AFu Ausbildung\DARC-Symbol.gif"/>
          <p:cNvPicPr/>
          <p:nvPr/>
        </p:nvPicPr>
        <p:blipFill>
          <a:blip r:embed="rId2"/>
          <a:stretch/>
        </p:blipFill>
        <p:spPr>
          <a:xfrm>
            <a:off x="7238880" y="380880"/>
            <a:ext cx="1265400" cy="7146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9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rganisatoris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formationen über die Mailing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http://lists.darc.de/mailman/listinfo/lizkurs_c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bseite Ortsverband München-Sü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http://www.darc.de/c/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ammelte Inf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http://wiki.muc.ccc.de/afu-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ächster Termi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, 07. Januar 19 Uhr lok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Inhaltsplatzhalter 2"/>
          <p:cNvSpPr/>
          <p:nvPr/>
        </p:nvSpPr>
        <p:spPr>
          <a:xfrm>
            <a:off x="687240" y="3402000"/>
            <a:ext cx="777240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gprogram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zeigen nach Eingabe des Rufzeichens auch Antennenrichtung usw. 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e Rufzeichenl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e Möglichkeiten (3 /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98108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rekt das Rufzeichen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fzeichenlis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achschau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1197000" y="2427120"/>
            <a:ext cx="2295360" cy="714600"/>
          </a:xfrm>
          <a:prstGeom prst="rect">
            <a:avLst/>
          </a:prstGeom>
          <a:ln w="0">
            <a:noFill/>
          </a:ln>
        </p:spPr>
      </p:pic>
      <p:sp>
        <p:nvSpPr>
          <p:cNvPr id="532" name="Rechteck 6"/>
          <p:cNvSpPr/>
          <p:nvPr/>
        </p:nvSpPr>
        <p:spPr>
          <a:xfrm>
            <a:off x="3708360" y="270828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22228b"/>
                </a:solidFill>
                <a:uFillTx/>
                <a:latin typeface="Times New Roman"/>
              </a:rPr>
              <a:t>http://ans.bundesnetzagentur.de/Amateurfu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79992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 in der Betriebstech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D202  Welche Gruppe von Ländern grenzt an die Bundesrepublik Deutschlan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M, LA, LZ, H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A, GM, OE,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, HB, OZ,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T, I, LX,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5" descr="C:\Users\user\AppData\Local\Microsoft\Windows\Temporary Internet Files\Content.IE5\OIWU05FN\MC900441902[1].wmf"/>
          <p:cNvPicPr/>
          <p:nvPr/>
        </p:nvPicPr>
        <p:blipFill>
          <a:blip r:embed="rId1"/>
          <a:stretch/>
        </p:blipFill>
        <p:spPr>
          <a:xfrm>
            <a:off x="7308720" y="4076640"/>
            <a:ext cx="1521000" cy="17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 in der Betriebstechnik 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D202  Welche Gruppe von Ländern grenzt an die Bundesrepublik Deutschlan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M, LA, LZ, H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A, GM, OE,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, HB, OZ, S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T, I, LX,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C:\Users\user\AppData\Local\Microsoft\Windows\Temporary Internet Files\Content.IE5\SLB05ASA\MC900441930[1].wmf"/>
          <p:cNvPicPr/>
          <p:nvPr/>
        </p:nvPicPr>
        <p:blipFill>
          <a:blip r:embed="rId1"/>
          <a:stretch/>
        </p:blipFill>
        <p:spPr>
          <a:xfrm>
            <a:off x="7093080" y="4711680"/>
            <a:ext cx="165564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ufg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504720" y="1981080"/>
            <a:ext cx="3635640" cy="4419720"/>
          </a:xfrm>
          <a:prstGeom prst="rect">
            <a:avLst/>
          </a:prstGeom>
          <a:ln w="0">
            <a:noFill/>
          </a:ln>
        </p:spPr>
      </p:pic>
      <p:sp>
        <p:nvSpPr>
          <p:cNvPr id="545" name="Inhaltsplatzhalter 2"/>
          <p:cNvSpPr/>
          <p:nvPr/>
        </p:nvSpPr>
        <p:spPr>
          <a:xfrm>
            <a:off x="4572000" y="4076640"/>
            <a:ext cx="38862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ie nebenstehende Grafi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an Deutschland angrenzenden Landeske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uropäischen Landeskenner eint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548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2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614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rkregeln europäische Landeskenner (Ausz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rankreich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rankrei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chweiz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Hohe Ber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B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Liechtenstein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zwischen HB und 0esterreich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V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Vatikan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Heiliger Vat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Norwegen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Lach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LX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Luxemburg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Tschechien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(Ohne Kohl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Belgien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Oberhalb sind Niederl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Z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Dänemark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Obacht Zoll wieder eingefüh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Niederlande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antin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lowenien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chönes 5lowenien (5 = 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olen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oz. Pol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nweis zu ITU-Landeskenn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rkregeln lern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e m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7 Landeskenner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ie für die Prüfung notwendig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22228b"/>
                </a:solidFill>
                <a:uFillTx/>
                <a:latin typeface="Arial"/>
              </a:rPr>
              <a:t>http://www.funkwelle.com/amateurfunk/</a:t>
            </a:r>
            <a:br>
              <a:rPr sz="2400"/>
            </a:br>
            <a:r>
              <a:rPr b="0" lang="de-DE" sz="2400" spc="-1" strike="noStrike" u="sng">
                <a:solidFill>
                  <a:srgbClr val="22228b"/>
                </a:solidFill>
                <a:uFillTx/>
                <a:latin typeface="Arial"/>
              </a:rPr>
              <a:t>itu-landeskenner-lerne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 bei Großbritannien:</a:t>
            </a:r>
            <a:br>
              <a:rPr sz="2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 plus Ziffer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M plus Ziffer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nur für England.</a:t>
            </a:r>
            <a:br>
              <a:rPr sz="2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M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ür Schottland,</a:t>
            </a:r>
            <a:br>
              <a:rPr sz="2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W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ür Wales,</a:t>
            </a:r>
            <a:br>
              <a:rPr sz="2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ür Nordirland us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fzeichenzusä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/m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Funkbetrieb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f offener Se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nicht Binnengewässern!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/a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Funkbetrieb in einem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uftfahrzeu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ewegli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mateurfunkstellen, die sich z.B. im Auto,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Fahrrad oder Boot auf einem Binnengewäs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vorübergehend ortsfestem Funkbetrieb an eine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en Ort, als in der Genehmigung eingetragen. Dies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tz ist nicht zwingend erforderl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utschland sind die Zusätze generell nicht mehr vorgeschrie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fzeichenzusä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/m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Funkbetrieb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f offener Se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nicht Binnengewässern!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/a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Funkbetrieb in einem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uftfahrzeu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ewegli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mateurfunkstellen, die sich z.B. im Auto,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Fahrrad oder Boot auf einem Binnengewäs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vorübergehend ortsfestem Funkbetrieb an eine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en Ort, als in der Genehmigung eingetragen. Dies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tz ist nicht zwingend erforderl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utschland sind die Zusätze generell nicht mehr vorgeschrie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Inhaltsplatzhalter 2"/>
          <p:cNvSpPr/>
          <p:nvPr/>
        </p:nvSpPr>
        <p:spPr>
          <a:xfrm>
            <a:off x="755640" y="2276640"/>
            <a:ext cx="7561440" cy="37447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7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5720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 in der Betriebstechnik (VB110) 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 hören die Amateurfunkstation mit dem Rufzeichen DL/G3MM. Welcher der nachfolgenden Sachverhalte trifft z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 Der englischen Station G3MM ist es aufgrund der CEPT-Empfehlung T/R 61- 01 gestattet, vorübergehend von Deutschland aus den Amateurfunk auszuü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machen wir heu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4"/>
          <p:cNvGrpSpPr/>
          <p:nvPr/>
        </p:nvGrpSpPr>
        <p:grpSpPr>
          <a:xfrm>
            <a:off x="304920" y="1871640"/>
            <a:ext cx="8661240" cy="3718080"/>
            <a:chOff x="304920" y="1871640"/>
            <a:chExt cx="8661240" cy="3718080"/>
          </a:xfrm>
        </p:grpSpPr>
        <p:pic>
          <p:nvPicPr>
            <p:cNvPr id="493" name="Picture 5" descr="H:\Markt der Möglichkeiten 2007\sep05-4.jpg"/>
            <p:cNvPicPr/>
            <p:nvPr/>
          </p:nvPicPr>
          <p:blipFill>
            <a:blip r:embed="rId1"/>
            <a:stretch/>
          </p:blipFill>
          <p:spPr>
            <a:xfrm>
              <a:off x="2210040" y="2938680"/>
              <a:ext cx="3524040" cy="22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6" descr="H:\Markt der Möglichkeiten 2007\mai06-3.jpg"/>
            <p:cNvPicPr/>
            <p:nvPr/>
          </p:nvPicPr>
          <p:blipFill>
            <a:blip r:embed="rId2"/>
            <a:stretch/>
          </p:blipFill>
          <p:spPr>
            <a:xfrm>
              <a:off x="304920" y="2024280"/>
              <a:ext cx="3498840" cy="22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7" descr="H:\Markt der Möglichkeiten 2007\sep06-1.jpg"/>
            <p:cNvPicPr/>
            <p:nvPr/>
          </p:nvPicPr>
          <p:blipFill>
            <a:blip r:embed="rId3"/>
            <a:stretch/>
          </p:blipFill>
          <p:spPr>
            <a:xfrm>
              <a:off x="6888240" y="2024280"/>
              <a:ext cx="2077920" cy="30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8" descr="H:\Markt der Möglichkeiten 2007\apr07-2.jpg"/>
            <p:cNvPicPr/>
            <p:nvPr/>
          </p:nvPicPr>
          <p:blipFill>
            <a:blip r:embed="rId4"/>
            <a:stretch/>
          </p:blipFill>
          <p:spPr>
            <a:xfrm>
              <a:off x="685800" y="3776760"/>
              <a:ext cx="2895840" cy="18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9" descr="H:\Markt der Möglichkeiten 2007\2004syowa01.jpg"/>
            <p:cNvPicPr/>
            <p:nvPr/>
          </p:nvPicPr>
          <p:blipFill>
            <a:blip r:embed="rId5"/>
            <a:stretch/>
          </p:blipFill>
          <p:spPr>
            <a:xfrm>
              <a:off x="4419720" y="3776760"/>
              <a:ext cx="266688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0" descr="H:\Markt der Möglichkeiten 2007\oa.jpg"/>
            <p:cNvPicPr/>
            <p:nvPr/>
          </p:nvPicPr>
          <p:blipFill>
            <a:blip r:embed="rId6"/>
            <a:stretch/>
          </p:blipFill>
          <p:spPr>
            <a:xfrm>
              <a:off x="4724640" y="1871640"/>
              <a:ext cx="2438280" cy="155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Inhaltsplatzhalter 11"/>
          <p:cNvSpPr/>
          <p:nvPr/>
        </p:nvSpPr>
        <p:spPr>
          <a:xfrm>
            <a:off x="684360" y="587700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Landeskenner  /  2. IARU-Regionen  /  3. Deutsche Ruf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ARU-REGIO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gesamt gibt es 3 Regionen, wei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Inhaltsplatzhalter 11"/>
          <p:cNvSpPr/>
          <p:nvPr/>
        </p:nvSpPr>
        <p:spPr>
          <a:xfrm>
            <a:off x="250920" y="189000"/>
            <a:ext cx="295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ndeske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ARU-Re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 Ruf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ARU-Reg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98108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gion 1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frika, Vorderasien (ohne Iran), Russland, Georgien, Armenien, Aserbaidschan, Kasachstan, Turkmenistan, Usbekistan, Tadschikistan, Kirgisistan, Mongole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gion 2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d- und Südamerik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Karibik, Grönland, Hawa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gion 3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trali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Neuseeland, Ozeanien und Asien ohne die unter Region 1 genannten Länder Asie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3019320" cy="247680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4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9" descr=""/>
          <p:cNvPicPr/>
          <p:nvPr/>
        </p:nvPicPr>
        <p:blipFill>
          <a:blip r:embed="rId2"/>
          <a:stretch/>
        </p:blipFill>
        <p:spPr>
          <a:xfrm>
            <a:off x="3851280" y="4221000"/>
            <a:ext cx="3019320" cy="2267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" descr=""/>
          <p:cNvPicPr/>
          <p:nvPr/>
        </p:nvPicPr>
        <p:blipFill>
          <a:blip r:embed="rId3"/>
          <a:stretch/>
        </p:blipFill>
        <p:spPr>
          <a:xfrm>
            <a:off x="6948360" y="4221000"/>
            <a:ext cx="302904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rkregeln (Ausz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6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8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0920" y="5876640"/>
            <a:ext cx="784692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F = Island  „Tiefer Frost“  // </a:t>
            </a:r>
            <a:r>
              <a:rPr b="0" lang="de-DE" sz="2000" spc="-1" strike="noStrike">
                <a:solidFill>
                  <a:srgbClr val="22228b"/>
                </a:solidFill>
                <a:latin typeface="Arial"/>
              </a:rPr>
              <a:t>Quelle: f5le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1"/>
          <a:stretch/>
        </p:blipFill>
        <p:spPr>
          <a:xfrm>
            <a:off x="6300720" y="2030400"/>
            <a:ext cx="1666800" cy="3486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http://cluster.f5len.org/atlas/cartes/TF.png"/>
          <p:cNvPicPr/>
          <p:nvPr/>
        </p:nvPicPr>
        <p:blipFill>
          <a:blip r:embed="rId2"/>
          <a:stretch/>
        </p:blipFill>
        <p:spPr>
          <a:xfrm>
            <a:off x="611280" y="1989000"/>
            <a:ext cx="530532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6300720" y="1989000"/>
            <a:ext cx="1666800" cy="34578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" descr="http://cluster.f5len.org/atlas/cartes/VK.png"/>
          <p:cNvPicPr/>
          <p:nvPr/>
        </p:nvPicPr>
        <p:blipFill>
          <a:blip r:embed="rId2"/>
          <a:stretch/>
        </p:blipFill>
        <p:spPr>
          <a:xfrm>
            <a:off x="611280" y="1989000"/>
            <a:ext cx="5324400" cy="363852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rkregeln (Ausz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4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8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0920" y="5876640"/>
            <a:ext cx="784692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K = Australien  „Viele Kängurus“  // </a:t>
            </a:r>
            <a:r>
              <a:rPr b="0" lang="de-DE" sz="2000" spc="-1" strike="noStrike">
                <a:solidFill>
                  <a:srgbClr val="22228b"/>
                </a:solidFill>
                <a:latin typeface="Arial"/>
              </a:rPr>
              <a:t>Quelle: f5le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3" descr=""/>
          <p:cNvPicPr/>
          <p:nvPr/>
        </p:nvPicPr>
        <p:blipFill>
          <a:blip r:embed="rId1"/>
          <a:stretch/>
        </p:blipFill>
        <p:spPr>
          <a:xfrm>
            <a:off x="6300720" y="1989000"/>
            <a:ext cx="1666800" cy="34671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http://cluster.f5len.org/atlas/cartes/K.png"/>
          <p:cNvPicPr/>
          <p:nvPr/>
        </p:nvPicPr>
        <p:blipFill>
          <a:blip r:embed="rId2"/>
          <a:stretch/>
        </p:blipFill>
        <p:spPr>
          <a:xfrm>
            <a:off x="611280" y="1989000"/>
            <a:ext cx="5305320" cy="36198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rkregeln (Ausz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6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10920" y="5876640"/>
            <a:ext cx="784692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,W,N, A = USA  „Keiner Will Nach Amerika“  // </a:t>
            </a:r>
            <a:r>
              <a:rPr b="0" lang="de-DE" sz="2000" spc="-1" strike="noStrike">
                <a:solidFill>
                  <a:srgbClr val="22228b"/>
                </a:solidFill>
                <a:latin typeface="Arial"/>
              </a:rPr>
              <a:t>Quelle: f5le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 in der Betriebstech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D309  In welcher Zeile stehen nur Rufzeichen aus den Vereinigten Staaten von Amerika (USA)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DEF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GHI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JKL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MNO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PQR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ABC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DEF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GHI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JKL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MNO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PQ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GHI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JKL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MNO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PQR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ABC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D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JKL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MNO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PQR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ABC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DEF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G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6" descr="C:\Users\user\AppData\Local\Microsoft\Windows\Temporary Internet Files\Content.IE5\SLB05ASA\MC900397074[1].wmf"/>
          <p:cNvPicPr/>
          <p:nvPr/>
        </p:nvPicPr>
        <p:blipFill>
          <a:blip r:embed="rId1"/>
          <a:stretch/>
        </p:blipFill>
        <p:spPr>
          <a:xfrm>
            <a:off x="324000" y="1484280"/>
            <a:ext cx="86652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 in der Betriebstechnik 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D309  In welcher Zeile stehen nur Rufzeichen aus den Vereinigten Staaten von Amerika (USA)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3DEF, N4GHI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JKL, KA7MNO, WB7PQR, K2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2ABC, W3DEF, N4GHI, AB5JKL, KA7MNO, WB7PQR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4GHI, AB5JKL, KA7MNO, WB7PQR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ABC, W3D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5JKL, KA7MNO, WB7PQR, K2ABC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DEF, N4G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4" descr="C:\Users\user\AppData\Local\Microsoft\Windows\Temporary Internet Files\Content.IE5\SLB05ASA\MC900441930[1].wmf"/>
          <p:cNvPicPr/>
          <p:nvPr/>
        </p:nvPicPr>
        <p:blipFill>
          <a:blip r:embed="rId1"/>
          <a:stretch/>
        </p:blipFill>
        <p:spPr>
          <a:xfrm>
            <a:off x="7093080" y="4711680"/>
            <a:ext cx="165564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rkregeln (Ausz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2" descr="http://cluster.f5len.org/atlas/cartes/PY.png"/>
          <p:cNvPicPr/>
          <p:nvPr/>
        </p:nvPicPr>
        <p:blipFill>
          <a:blip r:embed="rId1"/>
          <a:stretch/>
        </p:blipFill>
        <p:spPr>
          <a:xfrm>
            <a:off x="611280" y="1989000"/>
            <a:ext cx="5305320" cy="36198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610920" y="5877000"/>
            <a:ext cx="78469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A = Peru  „Obere Anden“  // </a:t>
            </a:r>
            <a:r>
              <a:rPr b="0" lang="de-DE" sz="2000" spc="-1" strike="noStrike">
                <a:solidFill>
                  <a:srgbClr val="22228b"/>
                </a:solidFill>
                <a:latin typeface="Arial"/>
              </a:rPr>
              <a:t>Quelle: f5le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Y = Brasilien  „PYranha“ 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2"/>
          <a:stretch/>
        </p:blipFill>
        <p:spPr>
          <a:xfrm>
            <a:off x="6300720" y="1989000"/>
            <a:ext cx="1695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EUTSCHE RUFZEIC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....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.. Deutsch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S.. Süd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.. Philipp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Inhaltsplatzhalter 11"/>
          <p:cNvSpPr/>
          <p:nvPr/>
        </p:nvSpPr>
        <p:spPr>
          <a:xfrm>
            <a:off x="250920" y="189000"/>
            <a:ext cx="295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ndeske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ARU-Re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 Ruf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utsche Amateurfunkrufzei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unschrufzeichen bei Antrag auf Zulassung zum Amateurfunkdienst möglich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teilung deutscher Amateurfunkrufzeichen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Rufzeichenplan gemäß § 10 Abs. 3 AFu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regelt. (VD106!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ufzeichenliste der BNetzA onlin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22228b"/>
                </a:solidFill>
                <a:uFillTx/>
                <a:latin typeface="Arial"/>
              </a:rPr>
              <a:t>http://ans.bundesnetzagentur.de/Amateurfunk</a:t>
            </a:r>
            <a:br>
              <a:rPr sz="2000"/>
            </a:br>
            <a:r>
              <a:rPr b="0" lang="de-DE" sz="2000" spc="-1" strike="noStrike" u="sng">
                <a:solidFill>
                  <a:srgbClr val="22228b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ugeteilten Rufzeichen mit Namen des Inhabers und die Standorte von Relaisfunk und Funkbaken. Der Anschrift kann widersprochen werden, dies ist allerdings meist unpraktis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 in der Betriebstechnik (VD2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an erkennt man eine Amateurfunkstelle im Funkbetrieb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 Amateurfunkrufzei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 benutzen Frequenzbere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 der verwendeten Betriebs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 der Betriebstechn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fzeichenpräfixe im Bereich  DA..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1523880" y="2028960"/>
            <a:ext cx="609624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fzeichenpräfixe im Bereich  DA..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fix: Zwei Buchst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Z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ffix: 1-3 Buchst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 in Präfix und Zah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sonengebundene Rufz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ubstationen, Relaisfunkstellen, Funkba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bildungsrufz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ondere Statio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weichend: Sonderrufzeich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Q1A, DR2K, DL0MORSE, DA50NR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fzeichenpräfixe im Bereich  DA..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engebunden Klasse A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bis 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engebunden Klasse 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1…DO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bildungssta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N1-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werden wir in der Praxisstunde 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erimentelle Sondersta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5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aisfunkstelle, Digipeater, Funkbake: DB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ubsta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651640" y="1980720"/>
            <a:ext cx="280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lubstation Klasse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DB0), DF0, (DG0), DH0, DK0, DL0, DM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lubstation Klasse 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urzzeit(klub)s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0, DQ, D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450720" y="2000160"/>
            <a:ext cx="5118120" cy="3649680"/>
          </a:xfrm>
          <a:prstGeom prst="rect">
            <a:avLst/>
          </a:prstGeom>
          <a:ln w="0">
            <a:noFill/>
          </a:ln>
        </p:spPr>
      </p:pic>
      <p:sp>
        <p:nvSpPr>
          <p:cNvPr id="649" name="Rechteck 7"/>
          <p:cNvSpPr/>
          <p:nvPr/>
        </p:nvSpPr>
        <p:spPr>
          <a:xfrm>
            <a:off x="395280" y="5743440"/>
            <a:ext cx="57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22228b"/>
                </a:solidFill>
                <a:uFillTx/>
                <a:latin typeface="Times New Roman"/>
              </a:rPr>
              <a:t>http://wiki.muc.ccc.de/_media/amateurfunk:dl0muc_qsl_0105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ubstation: Exterritoriale Funkst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" descr="http://hb4fr.ch/images/ARISS_GYB_Album/ARISS_GYF_Album_00_small.jpg"/>
          <p:cNvPicPr/>
          <p:nvPr/>
        </p:nvPicPr>
        <p:blipFill>
          <a:blip r:embed="rId1"/>
          <a:stretch/>
        </p:blipFill>
        <p:spPr>
          <a:xfrm>
            <a:off x="684360" y="1989000"/>
            <a:ext cx="5327640" cy="3795840"/>
          </a:xfrm>
          <a:prstGeom prst="rect">
            <a:avLst/>
          </a:prstGeom>
          <a:ln w="0">
            <a:noFill/>
          </a:ln>
        </p:spPr>
      </p:pic>
      <p:sp>
        <p:nvSpPr>
          <p:cNvPr id="653" name="Rechteck 8"/>
          <p:cNvSpPr/>
          <p:nvPr/>
        </p:nvSpPr>
        <p:spPr>
          <a:xfrm>
            <a:off x="611280" y="5908680"/>
            <a:ext cx="57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22228b"/>
                </a:solidFill>
                <a:uFillTx/>
                <a:latin typeface="Times New Roman"/>
              </a:rPr>
              <a:t>http://hb4fr.ch/images/ARISS_GYB_Album/ARISS_GYF_Album_00_small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156000" y="2052720"/>
            <a:ext cx="2376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Fra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ER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5" descr="C:\Users\user\AppData\Local\Microsoft\Windows\Temporary Internet Files\Content.IE5\SLB05ASA\dglxasset[1].jpg"/>
          <p:cNvPicPr/>
          <p:nvPr/>
        </p:nvPicPr>
        <p:blipFill>
          <a:blip r:embed="rId1"/>
          <a:stretch/>
        </p:blipFill>
        <p:spPr>
          <a:xfrm>
            <a:off x="4427640" y="2276640"/>
            <a:ext cx="2592360" cy="3187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7" descr="C:\Users\user\AppData\Local\Microsoft\Windows\Temporary Internet Files\Content.IE5\85HACXA2\dglxasset[1].aspx"/>
          <p:cNvPicPr/>
          <p:nvPr/>
        </p:nvPicPr>
        <p:blipFill>
          <a:blip r:embed="rId2"/>
          <a:stretch/>
        </p:blipFill>
        <p:spPr>
          <a:xfrm>
            <a:off x="324000" y="1996920"/>
            <a:ext cx="4012920" cy="34480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Nächste Stunde: Mi, 07. Januar 2014, 19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6"/>
          <p:cNvSpPr/>
          <p:nvPr/>
        </p:nvSpPr>
        <p:spPr>
          <a:xfrm>
            <a:off x="468360" y="4668840"/>
            <a:ext cx="9144000" cy="265356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Lucida Handwriting"/>
              </a:rPr>
              <a:t>Schöne Weihnachtsze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9" descr="C:\Users\user\AppData\Local\Microsoft\Windows\Temporary Internet Files\Content.IE5\OIWU05FN\MP900402266[1].jpg"/>
          <p:cNvPicPr/>
          <p:nvPr/>
        </p:nvPicPr>
        <p:blipFill>
          <a:blip r:embed="rId3"/>
          <a:stretch/>
        </p:blipFill>
        <p:spPr>
          <a:xfrm>
            <a:off x="7645320" y="2349360"/>
            <a:ext cx="153504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ußzeilenplatzhalter 1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feld 2"/>
          <p:cNvSpPr/>
          <p:nvPr/>
        </p:nvSpPr>
        <p:spPr>
          <a:xfrm>
            <a:off x="345960" y="3716280"/>
            <a:ext cx="489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Times New Roman"/>
              </a:rPr>
              <a:t>5min Pau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2" descr="C:\Users\user\AppData\Local\Microsoft\Windows\Temporary Internet Files\Content.IE5\85HACXA2\MC900432687[1].png"/>
          <p:cNvPicPr/>
          <p:nvPr/>
        </p:nvPicPr>
        <p:blipFill>
          <a:blip r:embed="rId1"/>
          <a:stretch/>
        </p:blipFill>
        <p:spPr>
          <a:xfrm>
            <a:off x="5667480" y="3033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 in der Betriebstechnik (VD218) 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an erkennt man eine Amateurfunkstelle im Funkbetrieb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Amateurfunkrufzeichen.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 benutzen Frequenzbere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 der verwendeten Betriebs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 der Betriebstechn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LANDESKE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ufzeichenprä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Inhaltsplatzhalter 11"/>
          <p:cNvSpPr/>
          <p:nvPr/>
        </p:nvSpPr>
        <p:spPr>
          <a:xfrm>
            <a:off x="250920" y="189000"/>
            <a:ext cx="295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ndeske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ARU-Re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 Ruf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fzeichenauf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395280" y="2257560"/>
          <a:ext cx="8353440" cy="4403520"/>
        </p:xfrm>
        <a:graphic>
          <a:graphicData uri="http://schemas.openxmlformats.org/drawingml/2006/table">
            <a:tbl>
              <a:tblPr/>
              <a:tblGrid>
                <a:gridCol w="1103400"/>
                <a:gridCol w="1104840"/>
                <a:gridCol w="1103400"/>
                <a:gridCol w="2520720"/>
                <a:gridCol w="2521080"/>
              </a:tblGrid>
              <a:tr h="3618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350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B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gridSpan="4"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160">
                <a:tc rowSpan="4"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sch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we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en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 gridSpan="4"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ka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1800">
                <a:tc gridSpan="5"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Zahl      B = Buchsta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 in der Betriebstechnik (BD201) 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 können Sie nachschlagen, in welchem Land sich eine Amateurfunkstelle mit einem Ihnen bislang unbekannten Landeskenner befindet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In der Landeskennerliste der ITU, Amateurfunkhandbüchern und Rufzeichen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e Möglichkeiten (1 /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5800680" cy="4419720"/>
          </a:xfrm>
          <a:prstGeom prst="rect">
            <a:avLst/>
          </a:prstGeom>
          <a:ln w="0">
            <a:noFill/>
          </a:ln>
        </p:spPr>
      </p:pic>
      <p:sp>
        <p:nvSpPr>
          <p:cNvPr id="519" name="Rechteck 6"/>
          <p:cNvSpPr/>
          <p:nvPr/>
        </p:nvSpPr>
        <p:spPr>
          <a:xfrm>
            <a:off x="755640" y="63514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22228b"/>
                </a:solidFill>
                <a:uFillTx/>
                <a:latin typeface="Times New Roman"/>
              </a:rPr>
              <a:t>http://cluster.f5len.org/index.php?p=at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Inhaltsplatzhalter 2"/>
          <p:cNvSpPr/>
          <p:nvPr/>
        </p:nvSpPr>
        <p:spPr>
          <a:xfrm>
            <a:off x="687240" y="3402000"/>
            <a:ext cx="77724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22228b"/>
                </a:solidFill>
                <a:uFillTx/>
                <a:latin typeface="Times New Roman"/>
              </a:rPr>
              <a:t>http://ans.bundesnetzagentur.de/Amateurfunk</a:t>
            </a:r>
            <a:r>
              <a:rPr b="0" lang="de-DE" sz="2000" spc="-1" strike="noStrike">
                <a:solidFill>
                  <a:srgbClr val="22228b"/>
                </a:solidFill>
                <a:latin typeface="Times New Roman"/>
              </a:rPr>
              <a:t> / FCC / 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e Möglichkeiten (2 /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98108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rekt das Rufzeichen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fzeichenlis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achschau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ußzeilenplatzhalter 3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rtsverband München-Süd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utschen Amateur-Radio-Club e.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197000" y="2427120"/>
            <a:ext cx="2295360" cy="7146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"/>
          <p:cNvPicPr/>
          <p:nvPr/>
        </p:nvPicPr>
        <p:blipFill>
          <a:blip r:embed="rId2"/>
          <a:stretch/>
        </p:blipFill>
        <p:spPr>
          <a:xfrm>
            <a:off x="1201680" y="3903840"/>
            <a:ext cx="5962680" cy="4133520"/>
          </a:xfrm>
          <a:prstGeom prst="rect">
            <a:avLst/>
          </a:prstGeom>
          <a:ln w="2520">
            <a:solidFill>
              <a:srgbClr val="000000"/>
            </a:solidFill>
            <a:miter/>
          </a:ln>
        </p:spPr>
      </p:pic>
      <p:pic>
        <p:nvPicPr>
          <p:cNvPr id="526" name="Picture 1" descr=""/>
          <p:cNvPicPr/>
          <p:nvPr/>
        </p:nvPicPr>
        <p:blipFill>
          <a:blip r:embed="rId3"/>
          <a:stretch/>
        </p:blipFill>
        <p:spPr>
          <a:xfrm>
            <a:off x="3780000" y="2673360"/>
            <a:ext cx="799920" cy="32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3:16:25Z</dcterms:created>
  <dc:creator>vtk2006; Dominik Bok</dc:creator>
  <dc:description/>
  <dc:language>en-US</dc:language>
  <cp:lastModifiedBy>user</cp:lastModifiedBy>
  <dcterms:modified xsi:type="dcterms:W3CDTF">2014-12-15T21:11:02Z</dcterms:modified>
  <cp:revision>400</cp:revision>
  <dc:subject/>
  <dc:title>PowerPoint-Präsentation</dc:title>
</cp:coreProperties>
</file>